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EFD3-9517-4D17-B172-DB5B2D81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6637-B3A9-43F9-886B-FA41C48C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3149-BF3F-4E0F-B9A4-88D7A3568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5FBD-3CF5-4545-BDE4-05A4C213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4319-F5D9-42B6-994D-84C73550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9668-0442-4F43-B900-0AA4E633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0F05-DF1D-4401-B848-310E5CF8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B14B-4493-49FB-A9E1-38F6C28C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CBAD-1841-4B56-906F-3DDC25B7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4B87-8511-42CC-98A1-D3F43212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EB9C-5626-46F3-9F75-0BFFC745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62F5-010E-4F9A-A508-6A2299F8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08FB-58C3-45C7-A2E8-824BEFB5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0341-4AB4-48DB-A8A1-3319C97E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0E77-2BDC-4012-83A6-B7AAF905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D2D3-28AF-4E8C-9B32-2E213DDDE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ABA2-5BAD-4795-9504-893499A29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69A0-0BCA-40AB-B2C4-46E135C6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AFF2-DD46-41F3-BD79-5B515C0D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FAAF-5BBB-4F93-ACEE-727C323B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15D6-08D3-4792-8943-6F75C9B6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5404-7542-4B5C-A345-C0AEB1C9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CF50-35AF-43BB-9183-B825649D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5DF9-6A1D-4825-8EEA-A44E5561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46C8-A2D0-4ABC-B8B5-255A223FD31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2CE4-3E7F-42BC-9866-4DF1A10F77A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447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Jephthah and the Ephraimit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dges 11:34 - 12: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87-9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Days of the Judge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 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3581280"/>
            <a:ext cx="7162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xt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bz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d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irth of Sam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view from last lesson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rael under oppression from the Ammonites for 18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monites mustered their forces to wipe out the Israelites east of the Jord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of Gilead asked Jephthah to lead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gotiations between Jephthah and Ammonites fai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: “Let Jehovah judge between u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view - Jephthah’s Vow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1:29-33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de vow to the Lord for succes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you will deliver the children of Ammon into my hands, the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hatsoev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hould come out to meet me, when I return from winning the battle, shall surely be the Lord’s and “I will offe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up for a burnt offering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mmonites routed with a great slaughter  v32-3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returned to his house in Mizpeh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ephthah’s Vow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1:34-4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daughter, his only child, came out to rejoice with him  v3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as heart-stricken and brought low  v3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daughter asked for a respite  v36-3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o months to lament her virginity with her companions upon the mountai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 fulfilled his vow  v39-4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ephthah vs. Ephraimite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2:1-6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hraimites challenged Jephthah’s right to go to war against the Ammonites without their consent and participation.  v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vious and bitter against hi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eatened to burn him in his own hou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ir charges denied  v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given the glory for the victory  v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ephthah vs. Ephraimite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2:1-6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hraimites with another false charge  v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ileadites were fugitives (deserters) of Ephrai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ight broke out – Ephraimites ran  v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leadites blocked the ford of the Jordan  v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one who crossed the river asked if they were an Ephraimites  v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ephthah vs. Ephraimite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2:1-6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es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ose who said “No” were tested by being asked to pronounce the word 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hib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leth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phraimites would say 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ib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leth”, which exposed them  v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other 42,000 men died by the sword  v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3429000"/>
            <a:ext cx="190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phraimites crossed Jordan to compl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4419720"/>
            <a:ext cx="335304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62920" y="3581280"/>
            <a:ext cx="198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Gileadites blocked ford of Jordan as they r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028840" y="4267080"/>
            <a:ext cx="213372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ephthah Died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2:7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judged “Israel” for six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ed and buried in Gile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 in the “faith chapter”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Heb. 11:32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7:47:55Z</dcterms:created>
  <dc:creator>Frank D Vines</dc:creator>
  <dc:description/>
  <dc:language>en-US</dc:language>
  <cp:lastModifiedBy>Frank D Vines</cp:lastModifiedBy>
  <dcterms:modified xsi:type="dcterms:W3CDTF">2005-02-23T23:59:03Z</dcterms:modified>
  <cp:revision>15</cp:revision>
  <dc:subject/>
  <dc:title>Jephthah</dc:title>
</cp:coreProperties>
</file>